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00079F-A75C-42F1-81AA-F5BCF4BFFF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36600"/>
            <a:ext cx="9066240" cy="12571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27" name="PlaceHolder 2"/>
          <p:cNvSpPr>
            <a:spLocks noGrp="1"/>
          </p:cNvSpPr>
          <p:nvPr>
            <p:ph/>
          </p:nvPr>
        </p:nvSpPr>
        <p:spPr>
          <a:xfrm>
            <a:off x="503280" y="1767960"/>
            <a:ext cx="90662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3280" y="4132440"/>
            <a:ext cx="90662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56F23-6C80-4651-8D36-F17DE6452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36600"/>
            <a:ext cx="9066240" cy="12571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0" name="PlaceHolder 2"/>
          <p:cNvSpPr>
            <a:spLocks noGrp="1"/>
          </p:cNvSpPr>
          <p:nvPr>
            <p:ph/>
          </p:nvPr>
        </p:nvSpPr>
        <p:spPr>
          <a:xfrm>
            <a:off x="503280" y="1767960"/>
            <a:ext cx="44240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49080" y="1767960"/>
            <a:ext cx="44240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03280" y="4132440"/>
            <a:ext cx="44240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49080" y="4132440"/>
            <a:ext cx="44240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74DA29-89CB-484F-832C-B71997605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36600"/>
            <a:ext cx="9066240" cy="12571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5" name="PlaceHolder 2"/>
          <p:cNvSpPr>
            <a:spLocks noGrp="1"/>
          </p:cNvSpPr>
          <p:nvPr>
            <p:ph/>
          </p:nvPr>
        </p:nvSpPr>
        <p:spPr>
          <a:xfrm>
            <a:off x="503280" y="1767960"/>
            <a:ext cx="29192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69040" y="1767960"/>
            <a:ext cx="29192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34440" y="1767960"/>
            <a:ext cx="29192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03280" y="4132440"/>
            <a:ext cx="29192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69040" y="4132440"/>
            <a:ext cx="29192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34440" y="4132440"/>
            <a:ext cx="29192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75B8EA-E3BB-453B-8A8B-E7126555C1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BE6778-2A26-4251-9E52-1AFE6E2C88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3280" y="336600"/>
            <a:ext cx="9066240" cy="12571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47" name="PlaceHolder 2"/>
          <p:cNvSpPr>
            <a:spLocks noGrp="1"/>
          </p:cNvSpPr>
          <p:nvPr>
            <p:ph type="subTitle"/>
          </p:nvPr>
        </p:nvSpPr>
        <p:spPr>
          <a:xfrm>
            <a:off x="503280" y="1767960"/>
            <a:ext cx="9066240" cy="452628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C2451F-7F5F-47FC-9C39-D458245DFE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3280" y="336600"/>
            <a:ext cx="9066240" cy="12571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49" name="PlaceHolder 2"/>
          <p:cNvSpPr>
            <a:spLocks noGrp="1"/>
          </p:cNvSpPr>
          <p:nvPr>
            <p:ph/>
          </p:nvPr>
        </p:nvSpPr>
        <p:spPr>
          <a:xfrm>
            <a:off x="503280" y="1767960"/>
            <a:ext cx="9066240" cy="45262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DF70AC-3495-419E-8D6D-609E62165B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3280" y="336600"/>
            <a:ext cx="9066240" cy="12571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51" name="PlaceHolder 2"/>
          <p:cNvSpPr>
            <a:spLocks noGrp="1"/>
          </p:cNvSpPr>
          <p:nvPr>
            <p:ph/>
          </p:nvPr>
        </p:nvSpPr>
        <p:spPr>
          <a:xfrm>
            <a:off x="503280" y="1767960"/>
            <a:ext cx="4424040" cy="45262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149080" y="1767960"/>
            <a:ext cx="4424040" cy="45262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3B6EE5-6EC4-4CDF-B735-A6AE1964BA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3280" y="336600"/>
            <a:ext cx="9066240" cy="12571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A3171B-E9E0-4534-8113-9F48122425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3280" y="336600"/>
            <a:ext cx="9066240" cy="582840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880EB6-0927-407E-B9E9-26B079548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336600"/>
            <a:ext cx="9066240" cy="12571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56" name="PlaceHolder 2"/>
          <p:cNvSpPr>
            <a:spLocks noGrp="1"/>
          </p:cNvSpPr>
          <p:nvPr>
            <p:ph/>
          </p:nvPr>
        </p:nvSpPr>
        <p:spPr>
          <a:xfrm>
            <a:off x="503280" y="1767960"/>
            <a:ext cx="44240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149080" y="1767960"/>
            <a:ext cx="4424040" cy="45262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503280" y="4132440"/>
            <a:ext cx="44240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E18E8-B198-4392-878C-F9A2B6068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36600"/>
            <a:ext cx="9066240" cy="12571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6" name="PlaceHolder 2"/>
          <p:cNvSpPr>
            <a:spLocks noGrp="1"/>
          </p:cNvSpPr>
          <p:nvPr>
            <p:ph type="subTitle"/>
          </p:nvPr>
        </p:nvSpPr>
        <p:spPr>
          <a:xfrm>
            <a:off x="503280" y="1767960"/>
            <a:ext cx="9066240" cy="452628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AB712-BFDD-496C-8A36-4C2B24FD7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336600"/>
            <a:ext cx="9066240" cy="12571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60" name="PlaceHolder 2"/>
          <p:cNvSpPr>
            <a:spLocks noGrp="1"/>
          </p:cNvSpPr>
          <p:nvPr>
            <p:ph/>
          </p:nvPr>
        </p:nvSpPr>
        <p:spPr>
          <a:xfrm>
            <a:off x="503280" y="1767960"/>
            <a:ext cx="4424040" cy="45262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149080" y="1767960"/>
            <a:ext cx="44240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149080" y="4132440"/>
            <a:ext cx="44240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F0F30-66D3-47F4-85B5-09E288FDD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336600"/>
            <a:ext cx="9066240" cy="12571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64" name="PlaceHolder 2"/>
          <p:cNvSpPr>
            <a:spLocks noGrp="1"/>
          </p:cNvSpPr>
          <p:nvPr>
            <p:ph/>
          </p:nvPr>
        </p:nvSpPr>
        <p:spPr>
          <a:xfrm>
            <a:off x="503280" y="1767960"/>
            <a:ext cx="44240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149080" y="1767960"/>
            <a:ext cx="44240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503280" y="4132440"/>
            <a:ext cx="90662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C4EAB-F808-42A9-ABC6-784B1D175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336600"/>
            <a:ext cx="9066240" cy="12571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68" name="PlaceHolder 2"/>
          <p:cNvSpPr>
            <a:spLocks noGrp="1"/>
          </p:cNvSpPr>
          <p:nvPr>
            <p:ph/>
          </p:nvPr>
        </p:nvSpPr>
        <p:spPr>
          <a:xfrm>
            <a:off x="503280" y="1767960"/>
            <a:ext cx="90662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503280" y="4132440"/>
            <a:ext cx="90662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A41007-E2DF-4D4C-9166-11C0DA7E5B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3280" y="336600"/>
            <a:ext cx="9066240" cy="12571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71" name="PlaceHolder 2"/>
          <p:cNvSpPr>
            <a:spLocks noGrp="1"/>
          </p:cNvSpPr>
          <p:nvPr>
            <p:ph/>
          </p:nvPr>
        </p:nvSpPr>
        <p:spPr>
          <a:xfrm>
            <a:off x="503280" y="1767960"/>
            <a:ext cx="44240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149080" y="1767960"/>
            <a:ext cx="44240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503280" y="4132440"/>
            <a:ext cx="44240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149080" y="4132440"/>
            <a:ext cx="44240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BDDE0E-E5D9-49CE-994A-49C1B2B298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336600"/>
            <a:ext cx="9066240" cy="12571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76" name="PlaceHolder 2"/>
          <p:cNvSpPr>
            <a:spLocks noGrp="1"/>
          </p:cNvSpPr>
          <p:nvPr>
            <p:ph/>
          </p:nvPr>
        </p:nvSpPr>
        <p:spPr>
          <a:xfrm>
            <a:off x="503280" y="1767960"/>
            <a:ext cx="29192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569040" y="1767960"/>
            <a:ext cx="29192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634440" y="1767960"/>
            <a:ext cx="29192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503280" y="4132440"/>
            <a:ext cx="29192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569040" y="4132440"/>
            <a:ext cx="29192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634440" y="4132440"/>
            <a:ext cx="29192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5DD37A-1AFB-47BB-BE6D-E71258C483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76BC26-ACDF-41B9-82A2-9FEBC3E7B1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336600"/>
            <a:ext cx="9066240" cy="12571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88" name="PlaceHolder 2"/>
          <p:cNvSpPr>
            <a:spLocks noGrp="1"/>
          </p:cNvSpPr>
          <p:nvPr>
            <p:ph type="subTitle"/>
          </p:nvPr>
        </p:nvSpPr>
        <p:spPr>
          <a:xfrm>
            <a:off x="503280" y="1767960"/>
            <a:ext cx="9066240" cy="452628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49EF5D-D817-457A-8DDA-5E36B5EB06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36600"/>
            <a:ext cx="9066240" cy="12571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90" name="PlaceHolder 2"/>
          <p:cNvSpPr>
            <a:spLocks noGrp="1"/>
          </p:cNvSpPr>
          <p:nvPr>
            <p:ph/>
          </p:nvPr>
        </p:nvSpPr>
        <p:spPr>
          <a:xfrm>
            <a:off x="503280" y="1767960"/>
            <a:ext cx="9066240" cy="45262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D706AC-D046-4AEE-992D-C3EFA4C7DF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3280" y="336600"/>
            <a:ext cx="9066240" cy="12571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92" name="PlaceHolder 2"/>
          <p:cNvSpPr>
            <a:spLocks noGrp="1"/>
          </p:cNvSpPr>
          <p:nvPr>
            <p:ph/>
          </p:nvPr>
        </p:nvSpPr>
        <p:spPr>
          <a:xfrm>
            <a:off x="503280" y="1767960"/>
            <a:ext cx="4424040" cy="45262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5149080" y="1767960"/>
            <a:ext cx="4424040" cy="45262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E59D9B-0941-4E0A-A164-EB8BCC0AF8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3280" y="336600"/>
            <a:ext cx="9066240" cy="12571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4070F8-3945-44D0-B0F1-DBF1750350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36600"/>
            <a:ext cx="9066240" cy="12571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8" name="PlaceHolder 2"/>
          <p:cNvSpPr>
            <a:spLocks noGrp="1"/>
          </p:cNvSpPr>
          <p:nvPr>
            <p:ph/>
          </p:nvPr>
        </p:nvSpPr>
        <p:spPr>
          <a:xfrm>
            <a:off x="503280" y="1767960"/>
            <a:ext cx="9066240" cy="45262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DBE53-EFB8-458B-8D7D-F805BB4D5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3280" y="336600"/>
            <a:ext cx="9066240" cy="582840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B192D7-1A36-47DA-8FA5-E498C9946E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3280" y="336600"/>
            <a:ext cx="9066240" cy="12571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97" name="PlaceHolder 2"/>
          <p:cNvSpPr>
            <a:spLocks noGrp="1"/>
          </p:cNvSpPr>
          <p:nvPr>
            <p:ph/>
          </p:nvPr>
        </p:nvSpPr>
        <p:spPr>
          <a:xfrm>
            <a:off x="503280" y="1767960"/>
            <a:ext cx="44240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149080" y="1767960"/>
            <a:ext cx="4424040" cy="45262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503280" y="4132440"/>
            <a:ext cx="44240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ED2962-2BE1-45B7-9B8F-3BF512A364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36600"/>
            <a:ext cx="9066240" cy="12571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01" name="PlaceHolder 2"/>
          <p:cNvSpPr>
            <a:spLocks noGrp="1"/>
          </p:cNvSpPr>
          <p:nvPr>
            <p:ph/>
          </p:nvPr>
        </p:nvSpPr>
        <p:spPr>
          <a:xfrm>
            <a:off x="503280" y="1767960"/>
            <a:ext cx="4424040" cy="45262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5149080" y="1767960"/>
            <a:ext cx="44240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5149080" y="4132440"/>
            <a:ext cx="44240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BFC9DD-0570-47A2-BD4A-DF6F6DC96C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3280" y="336600"/>
            <a:ext cx="9066240" cy="12571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05" name="PlaceHolder 2"/>
          <p:cNvSpPr>
            <a:spLocks noGrp="1"/>
          </p:cNvSpPr>
          <p:nvPr>
            <p:ph/>
          </p:nvPr>
        </p:nvSpPr>
        <p:spPr>
          <a:xfrm>
            <a:off x="503280" y="1767960"/>
            <a:ext cx="44240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5149080" y="1767960"/>
            <a:ext cx="44240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503280" y="4132440"/>
            <a:ext cx="90662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3E19AD-9392-462E-A164-EAA25B213A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336600"/>
            <a:ext cx="9066240" cy="12571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09" name="PlaceHolder 2"/>
          <p:cNvSpPr>
            <a:spLocks noGrp="1"/>
          </p:cNvSpPr>
          <p:nvPr>
            <p:ph/>
          </p:nvPr>
        </p:nvSpPr>
        <p:spPr>
          <a:xfrm>
            <a:off x="503280" y="1767960"/>
            <a:ext cx="90662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503280" y="4132440"/>
            <a:ext cx="90662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5D9EAB-4C9F-455A-8A06-6428E00B0E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3280" y="336600"/>
            <a:ext cx="9066240" cy="12571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12" name="PlaceHolder 2"/>
          <p:cNvSpPr>
            <a:spLocks noGrp="1"/>
          </p:cNvSpPr>
          <p:nvPr>
            <p:ph/>
          </p:nvPr>
        </p:nvSpPr>
        <p:spPr>
          <a:xfrm>
            <a:off x="503280" y="1767960"/>
            <a:ext cx="44240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5149080" y="1767960"/>
            <a:ext cx="44240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503280" y="4132440"/>
            <a:ext cx="44240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5149080" y="4132440"/>
            <a:ext cx="44240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F9B79D-1DBC-4C26-AB0F-E4955C24AA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336600"/>
            <a:ext cx="9066240" cy="12571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17" name="PlaceHolder 2"/>
          <p:cNvSpPr>
            <a:spLocks noGrp="1"/>
          </p:cNvSpPr>
          <p:nvPr>
            <p:ph/>
          </p:nvPr>
        </p:nvSpPr>
        <p:spPr>
          <a:xfrm>
            <a:off x="503280" y="1767960"/>
            <a:ext cx="29192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569040" y="1767960"/>
            <a:ext cx="29192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6634440" y="1767960"/>
            <a:ext cx="29192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503280" y="4132440"/>
            <a:ext cx="29192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569040" y="4132440"/>
            <a:ext cx="29192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6634440" y="4132440"/>
            <a:ext cx="29192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25E775-A948-4648-872E-28D58ACFB0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D6D101-A1D3-4C22-A956-A3C1543F85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336600"/>
            <a:ext cx="9066240" cy="12571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29" name="PlaceHolder 2"/>
          <p:cNvSpPr>
            <a:spLocks noGrp="1"/>
          </p:cNvSpPr>
          <p:nvPr>
            <p:ph type="subTitle"/>
          </p:nvPr>
        </p:nvSpPr>
        <p:spPr>
          <a:xfrm>
            <a:off x="503280" y="1767960"/>
            <a:ext cx="9066240" cy="452628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E9AED5-160D-4C84-A74D-39D6F1BD28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03280" y="336600"/>
            <a:ext cx="9066240" cy="12571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31" name="PlaceHolder 2"/>
          <p:cNvSpPr>
            <a:spLocks noGrp="1"/>
          </p:cNvSpPr>
          <p:nvPr>
            <p:ph/>
          </p:nvPr>
        </p:nvSpPr>
        <p:spPr>
          <a:xfrm>
            <a:off x="503280" y="1767960"/>
            <a:ext cx="9066240" cy="45262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727AC3-DDDC-4957-88AE-8B930D7366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36600"/>
            <a:ext cx="9066240" cy="12571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0" name="PlaceHolder 2"/>
          <p:cNvSpPr>
            <a:spLocks noGrp="1"/>
          </p:cNvSpPr>
          <p:nvPr>
            <p:ph/>
          </p:nvPr>
        </p:nvSpPr>
        <p:spPr>
          <a:xfrm>
            <a:off x="503280" y="1767960"/>
            <a:ext cx="4424040" cy="45262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49080" y="1767960"/>
            <a:ext cx="4424040" cy="45262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60B31-6DF4-4CAF-B99B-789FBA09F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03280" y="336600"/>
            <a:ext cx="9066240" cy="12571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33" name="PlaceHolder 2"/>
          <p:cNvSpPr>
            <a:spLocks noGrp="1"/>
          </p:cNvSpPr>
          <p:nvPr>
            <p:ph/>
          </p:nvPr>
        </p:nvSpPr>
        <p:spPr>
          <a:xfrm>
            <a:off x="503280" y="1767960"/>
            <a:ext cx="4424040" cy="45262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5149080" y="1767960"/>
            <a:ext cx="4424040" cy="45262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AEEDAB-D437-4742-BBEC-80129456AF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03280" y="336600"/>
            <a:ext cx="9066240" cy="12571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DD095D-B018-4FAE-8160-A26CA5D3E4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03280" y="336600"/>
            <a:ext cx="9066240" cy="582840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D9DA66-8601-4D0C-B310-BA7FA42102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03280" y="336600"/>
            <a:ext cx="9066240" cy="12571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38" name="PlaceHolder 2"/>
          <p:cNvSpPr>
            <a:spLocks noGrp="1"/>
          </p:cNvSpPr>
          <p:nvPr>
            <p:ph/>
          </p:nvPr>
        </p:nvSpPr>
        <p:spPr>
          <a:xfrm>
            <a:off x="503280" y="1767960"/>
            <a:ext cx="44240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5149080" y="1767960"/>
            <a:ext cx="4424040" cy="45262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503280" y="4132440"/>
            <a:ext cx="44240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489E08-D77E-4D2C-BA60-B76BF513AE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336600"/>
            <a:ext cx="9066240" cy="12571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42" name="PlaceHolder 2"/>
          <p:cNvSpPr>
            <a:spLocks noGrp="1"/>
          </p:cNvSpPr>
          <p:nvPr>
            <p:ph/>
          </p:nvPr>
        </p:nvSpPr>
        <p:spPr>
          <a:xfrm>
            <a:off x="503280" y="1767960"/>
            <a:ext cx="4424040" cy="45262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5149080" y="1767960"/>
            <a:ext cx="44240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5149080" y="4132440"/>
            <a:ext cx="44240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4B07F6-5DD0-45A5-8E60-A03CB18FAC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336600"/>
            <a:ext cx="9066240" cy="12571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46" name="PlaceHolder 2"/>
          <p:cNvSpPr>
            <a:spLocks noGrp="1"/>
          </p:cNvSpPr>
          <p:nvPr>
            <p:ph/>
          </p:nvPr>
        </p:nvSpPr>
        <p:spPr>
          <a:xfrm>
            <a:off x="503280" y="1767960"/>
            <a:ext cx="44240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5149080" y="1767960"/>
            <a:ext cx="44240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503280" y="4132440"/>
            <a:ext cx="90662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8680FF-1367-4A47-9A02-4DB34CC74A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3280" y="336600"/>
            <a:ext cx="9066240" cy="12571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50" name="PlaceHolder 2"/>
          <p:cNvSpPr>
            <a:spLocks noGrp="1"/>
          </p:cNvSpPr>
          <p:nvPr>
            <p:ph/>
          </p:nvPr>
        </p:nvSpPr>
        <p:spPr>
          <a:xfrm>
            <a:off x="503280" y="1767960"/>
            <a:ext cx="90662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503280" y="4132440"/>
            <a:ext cx="90662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218237-0A83-4C04-89F2-8ACB77394E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3280" y="336600"/>
            <a:ext cx="9066240" cy="12571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53" name="PlaceHolder 2"/>
          <p:cNvSpPr>
            <a:spLocks noGrp="1"/>
          </p:cNvSpPr>
          <p:nvPr>
            <p:ph/>
          </p:nvPr>
        </p:nvSpPr>
        <p:spPr>
          <a:xfrm>
            <a:off x="503280" y="1767960"/>
            <a:ext cx="44240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5149080" y="1767960"/>
            <a:ext cx="44240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503280" y="4132440"/>
            <a:ext cx="44240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5149080" y="4132440"/>
            <a:ext cx="44240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D122B4-CDDD-4BE0-BBD4-3D0A7F50DE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3280" y="336600"/>
            <a:ext cx="9066240" cy="12571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58" name="PlaceHolder 2"/>
          <p:cNvSpPr>
            <a:spLocks noGrp="1"/>
          </p:cNvSpPr>
          <p:nvPr>
            <p:ph/>
          </p:nvPr>
        </p:nvSpPr>
        <p:spPr>
          <a:xfrm>
            <a:off x="503280" y="1767960"/>
            <a:ext cx="29192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569040" y="1767960"/>
            <a:ext cx="29192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6634440" y="1767960"/>
            <a:ext cx="29192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503280" y="4132440"/>
            <a:ext cx="29192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569040" y="4132440"/>
            <a:ext cx="29192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6634440" y="4132440"/>
            <a:ext cx="29192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7E2FF4-A699-4885-98F2-B2A0B8DFE8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36600"/>
            <a:ext cx="9066240" cy="12571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32FFC-627A-4250-9C3E-F915E7CB9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36600"/>
            <a:ext cx="9066240" cy="582840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3AAA8-BF9E-4AAD-AFF8-4612C07D4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36600"/>
            <a:ext cx="9066240" cy="12571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5" name="PlaceHolder 2"/>
          <p:cNvSpPr>
            <a:spLocks noGrp="1"/>
          </p:cNvSpPr>
          <p:nvPr>
            <p:ph/>
          </p:nvPr>
        </p:nvSpPr>
        <p:spPr>
          <a:xfrm>
            <a:off x="503280" y="1767960"/>
            <a:ext cx="44240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49080" y="1767960"/>
            <a:ext cx="4424040" cy="45262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03280" y="4132440"/>
            <a:ext cx="44240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34A96-63C1-42C0-98C9-D6C6E5B96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36600"/>
            <a:ext cx="9066240" cy="12571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9" name="PlaceHolder 2"/>
          <p:cNvSpPr>
            <a:spLocks noGrp="1"/>
          </p:cNvSpPr>
          <p:nvPr>
            <p:ph/>
          </p:nvPr>
        </p:nvSpPr>
        <p:spPr>
          <a:xfrm>
            <a:off x="503280" y="1767960"/>
            <a:ext cx="4424040" cy="45262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49080" y="1767960"/>
            <a:ext cx="44240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49080" y="4132440"/>
            <a:ext cx="44240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ADE0E-EACE-4F9F-B3FB-ECE4DA4B8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36600"/>
            <a:ext cx="9066240" cy="12571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23" name="PlaceHolder 2"/>
          <p:cNvSpPr>
            <a:spLocks noGrp="1"/>
          </p:cNvSpPr>
          <p:nvPr>
            <p:ph/>
          </p:nvPr>
        </p:nvSpPr>
        <p:spPr>
          <a:xfrm>
            <a:off x="503280" y="1767960"/>
            <a:ext cx="44240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49080" y="1767960"/>
            <a:ext cx="44240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03280" y="4132440"/>
            <a:ext cx="9066240" cy="21589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57F5B-A2BF-47F6-80C5-E051314B98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3000" cy="49816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0000" cy="51300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47720" y="6886080"/>
            <a:ext cx="3187800" cy="51300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27720" y="6886080"/>
            <a:ext cx="2340000" cy="51300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428479-E530-4FEA-9B3A-865E7320B7B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80"/>
                </a:solidFill>
                <a:latin typeface="Arial"/>
              </a:rPr>
              <a:t>Click to edit the title text format</a:t>
            </a:r>
            <a:endParaRPr b="1" lang="en-US" sz="4400" spc="-1" strike="noStrike">
              <a:solidFill>
                <a:srgbClr val="000080"/>
              </a:solidFill>
              <a:latin typeface="Arial"/>
            </a:endParaRPr>
          </a:p>
        </p:txBody>
      </p:sp>
      <p:sp>
        <p:nvSpPr>
          <p:cNvPr id="42" name="PlaceHolder 2"/>
          <p:cNvSpPr>
            <a:spLocks noGrp="1"/>
          </p:cNvSpPr>
          <p:nvPr>
            <p:ph type="body"/>
          </p:nvPr>
        </p:nvSpPr>
        <p:spPr>
          <a:xfrm>
            <a:off x="502920" y="1768320"/>
            <a:ext cx="9063000" cy="49816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503280" y="6886080"/>
            <a:ext cx="2340000" cy="51300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47720" y="6886080"/>
            <a:ext cx="3187800" cy="51300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227720" y="6886080"/>
            <a:ext cx="2340000" cy="51300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B5AAF3-B407-4EE0-9223-B922D0687841}"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20360" y="554040"/>
            <a:ext cx="86360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80099"/>
                </a:solidFill>
                <a:latin typeface="Arial"/>
              </a:rPr>
              <a:t>Click to edit the title text format</a:t>
            </a:r>
            <a:endParaRPr b="0" lang="en-US" sz="4400" spc="-1" strike="noStrike">
              <a:solidFill>
                <a:srgbClr val="280099"/>
              </a:solidFill>
              <a:latin typeface="Arial"/>
            </a:endParaRPr>
          </a:p>
        </p:txBody>
      </p:sp>
      <p:sp>
        <p:nvSpPr>
          <p:cNvPr id="83" name="PlaceHolder 2"/>
          <p:cNvSpPr>
            <a:spLocks noGrp="1"/>
          </p:cNvSpPr>
          <p:nvPr>
            <p:ph type="body"/>
          </p:nvPr>
        </p:nvSpPr>
        <p:spPr>
          <a:xfrm>
            <a:off x="900000" y="1983960"/>
            <a:ext cx="8275680" cy="4165560"/>
          </a:xfrm>
          <a:prstGeom prst="rect">
            <a:avLst/>
          </a:prstGeom>
          <a:noFill/>
          <a:ln w="0">
            <a:noFill/>
          </a:ln>
        </p:spPr>
        <p:txBody>
          <a:bodyPr lIns="0" rIns="0" tIns="28080" bIns="0" anchor="t">
            <a:normAutofit fontScale="97000"/>
          </a:bodyPr>
          <a:p>
            <a:pPr marL="33264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612360" y="6454440"/>
            <a:ext cx="2343240" cy="51588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7720" y="6454440"/>
            <a:ext cx="3190680" cy="51588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083000" y="6454440"/>
            <a:ext cx="2343240" cy="51588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AC11B0-114B-444F-82E5-82527E1C0855}"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336600"/>
            <a:ext cx="9066240" cy="12571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80"/>
                </a:solidFill>
                <a:latin typeface="Times New Roman"/>
              </a:rPr>
              <a:t>Click to edit the title text format</a:t>
            </a:r>
            <a:endParaRPr b="0" lang="en-US" sz="4400" spc="-1" strike="noStrike">
              <a:solidFill>
                <a:srgbClr val="000080"/>
              </a:solidFill>
              <a:latin typeface="Times New Roman"/>
            </a:endParaRPr>
          </a:p>
        </p:txBody>
      </p:sp>
      <p:sp>
        <p:nvSpPr>
          <p:cNvPr id="124" name="PlaceHolder 2"/>
          <p:cNvSpPr>
            <a:spLocks noGrp="1"/>
          </p:cNvSpPr>
          <p:nvPr>
            <p:ph type="body"/>
          </p:nvPr>
        </p:nvSpPr>
        <p:spPr>
          <a:xfrm>
            <a:off x="503280" y="1767960"/>
            <a:ext cx="9066240" cy="4526280"/>
          </a:xfrm>
          <a:prstGeom prst="rect">
            <a:avLst/>
          </a:prstGeom>
          <a:noFill/>
          <a:ln w="0">
            <a:noFill/>
          </a:ln>
        </p:spPr>
        <p:txBody>
          <a:bodyPr lIns="0" rIns="0" tIns="2016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502920" y="6670440"/>
            <a:ext cx="2343240" cy="51588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447720" y="6670440"/>
            <a:ext cx="3190680" cy="51588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7227360" y="6670440"/>
            <a:ext cx="2343240" cy="51588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937D70-F27F-4CD6-85F3-6167AE39C6FC}"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ducksters.com/biography/uspresidents/georgewashington.ph" TargetMode="External"/><Relationship Id="rId3" Type="http://schemas.openxmlformats.org/officeDocument/2006/relationships/hyperlink" Target="http://www.pocanticohills.org/washington/timeline.htm" TargetMode="External"/><Relationship Id="rId4" Type="http://schemas.openxmlformats.org/officeDocument/2006/relationships/slideLayout" Target="../slideLayouts/slideLayout4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503280" y="301680"/>
            <a:ext cx="9070920" cy="6456240"/>
          </a:xfrm>
          <a:prstGeom prst="rect">
            <a:avLst/>
          </a:prstGeom>
          <a:noFill/>
          <a:ln w="0">
            <a:noFill/>
          </a:ln>
        </p:spPr>
        <p:style>
          <a:lnRef idx="0"/>
          <a:fillRef idx="0"/>
          <a:effectRef idx="0"/>
          <a:fontRef idx="minor"/>
        </p:style>
        <p:txBody>
          <a:bodyPr lIns="0" rIns="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Blackadder ITC"/>
              </a:rPr>
              <a:t>George Washington</a:t>
            </a:r>
            <a:endParaRPr b="0" lang="en-US" sz="4000" spc="-1" strike="noStrike">
              <a:solidFill>
                <a:srgbClr val="000000"/>
              </a:solidFill>
              <a:latin typeface="Arial"/>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Blackadder ITC"/>
              </a:rPr>
              <a:t>By Aveonne </a:t>
            </a:r>
            <a:endParaRPr b="0" lang="en-US" sz="4000" spc="-1" strike="noStrike">
              <a:solidFill>
                <a:srgbClr val="000000"/>
              </a:solidFill>
              <a:latin typeface="Arial"/>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Blackadder ITC"/>
              </a:rPr>
              <a:t>1732-1799</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02920" y="380880"/>
            <a:ext cx="9069480" cy="1170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Times New Roman"/>
              </a:rPr>
              <a:t>Journal entry 4</a:t>
            </a:r>
            <a:endParaRPr b="0" lang="en-US" sz="4400" spc="-1" strike="noStrike">
              <a:solidFill>
                <a:srgbClr val="000080"/>
              </a:solidFill>
              <a:latin typeface="Times New Roman"/>
            </a:endParaRPr>
          </a:p>
        </p:txBody>
      </p:sp>
      <p:sp>
        <p:nvSpPr>
          <p:cNvPr id="204" name=""/>
          <p:cNvSpPr/>
          <p:nvPr/>
        </p:nvSpPr>
        <p:spPr>
          <a:xfrm>
            <a:off x="685800" y="1600200"/>
            <a:ext cx="8686800" cy="5486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800" spc="-1" strike="noStrike">
                <a:solidFill>
                  <a:srgbClr val="000000"/>
                </a:solidFill>
                <a:latin typeface="Comic Sans MS"/>
              </a:rPr>
              <a:t>I am now in my bed with pneumonia at the age of 67 and I don't know if I am going to make it.</a:t>
            </a:r>
            <a:endParaRPr b="0" lang="en-US" sz="4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02920" y="380880"/>
            <a:ext cx="9069480" cy="1170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Times New Roman"/>
              </a:rPr>
              <a:t>Resources </a:t>
            </a:r>
            <a:endParaRPr b="0" lang="en-US" sz="4400" spc="-1" strike="noStrike">
              <a:solidFill>
                <a:srgbClr val="000080"/>
              </a:solidFill>
              <a:latin typeface="Times New Roman"/>
            </a:endParaRPr>
          </a:p>
        </p:txBody>
      </p:sp>
      <p:sp>
        <p:nvSpPr>
          <p:cNvPr id="206" name=""/>
          <p:cNvSpPr/>
          <p:nvPr/>
        </p:nvSpPr>
        <p:spPr>
          <a:xfrm>
            <a:off x="1335240" y="3637080"/>
            <a:ext cx="7549920" cy="617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u="sng">
                <a:solidFill>
                  <a:srgbClr val="ccccff"/>
                </a:solidFill>
                <a:uFillTx/>
                <a:latin typeface="Comic Sans MS"/>
                <a:hlinkClick r:id="rId2"/>
              </a:rPr>
              <a:t>http://www.ducksters.com/biography/uspresidents/georgewashington.php</a:t>
            </a:r>
            <a:endParaRPr b="0" lang="en-US" sz="3200" spc="-1" strike="noStrike">
              <a:solidFill>
                <a:srgbClr val="000000"/>
              </a:solidFill>
              <a:latin typeface="Arial"/>
            </a:endParaRPr>
          </a:p>
        </p:txBody>
      </p:sp>
      <p:sp>
        <p:nvSpPr>
          <p:cNvPr id="207" name=""/>
          <p:cNvSpPr/>
          <p:nvPr/>
        </p:nvSpPr>
        <p:spPr>
          <a:xfrm>
            <a:off x="2514600" y="1600200"/>
            <a:ext cx="5943600" cy="1600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u="sng">
                <a:solidFill>
                  <a:srgbClr val="ccccff"/>
                </a:solidFill>
                <a:uFillTx/>
                <a:latin typeface="Comic Sans MS"/>
                <a:hlinkClick r:id="rId3"/>
              </a:rPr>
              <a:t>http://www.pocanticohills.org/washington/timeline.ht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02920" y="317520"/>
            <a:ext cx="9069480" cy="130032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Times New Roman"/>
              </a:rPr>
              <a:t>Childhood</a:t>
            </a:r>
            <a:endParaRPr b="0" lang="en-US" sz="4400" spc="-1" strike="noStrike">
              <a:solidFill>
                <a:srgbClr val="000080"/>
              </a:solidFill>
              <a:latin typeface="Times New Roman"/>
            </a:endParaRPr>
          </a:p>
        </p:txBody>
      </p:sp>
      <p:sp>
        <p:nvSpPr>
          <p:cNvPr id="166" name=""/>
          <p:cNvSpPr/>
          <p:nvPr/>
        </p:nvSpPr>
        <p:spPr>
          <a:xfrm>
            <a:off x="457200" y="1828800"/>
            <a:ext cx="9144000" cy="50752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Washington was born in Westmoreland County, Virginia on February 22, 1732. His father was Augustine Washington, a prosperous farmer his  mother, Mary Ball was were he descended from families who had emigrated from England to Virginia in the 1650's. After his father died in 1743 George lived with his stepbrother Lawrence at his estate, Mount Vernon. Washington had no formal schooling but, as was common in Virginia at  the time he was taught by his family and probably by tutors.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339480"/>
            <a:ext cx="9069480" cy="126036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Times New Roman"/>
              </a:rPr>
              <a:t>Teenager life</a:t>
            </a:r>
            <a:endParaRPr b="0" lang="en-US" sz="4400" spc="-1" strike="noStrike">
              <a:solidFill>
                <a:srgbClr val="000080"/>
              </a:solidFill>
              <a:latin typeface="Times New Roman"/>
            </a:endParaRPr>
          </a:p>
        </p:txBody>
      </p:sp>
      <p:sp>
        <p:nvSpPr>
          <p:cNvPr id="168" name=""/>
          <p:cNvSpPr/>
          <p:nvPr/>
        </p:nvSpPr>
        <p:spPr>
          <a:xfrm>
            <a:off x="914400" y="2057400"/>
            <a:ext cx="8229600" cy="28098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At the age 16 he went with one of his cousins Lawrence had married Anne Fair fax on a surveying expedition in the Shenandoah Valley. The next year George, now grown into a tall vigorous young man was appointed surveyor for Culpeper County, Virginia, and he lived for many months in the wilderness. In 1751 he sailed with Lawrence to Barbados.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03280" y="336240"/>
            <a:ext cx="9067680" cy="125892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Times New Roman"/>
              </a:rPr>
              <a:t>Adulthood</a:t>
            </a:r>
            <a:endParaRPr b="0" lang="en-US" sz="4400" spc="-1" strike="noStrike">
              <a:solidFill>
                <a:srgbClr val="000080"/>
              </a:solidFill>
              <a:latin typeface="Times New Roman"/>
            </a:endParaRPr>
          </a:p>
        </p:txBody>
      </p:sp>
      <p:sp>
        <p:nvSpPr>
          <p:cNvPr id="170" name=""/>
          <p:cNvSpPr/>
          <p:nvPr/>
        </p:nvSpPr>
        <p:spPr>
          <a:xfrm>
            <a:off x="457200" y="2057400"/>
            <a:ext cx="9144000" cy="32623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Washington had suggested the building of a fort at the forks of the Ohio River, where Pittsburgh now is. Governor Dinwiddie sent some men to build the fort and dispatched Washington, now promoted to lieutenant colonel, with 150 men to guard it against the french.  </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03280" y="336240"/>
            <a:ext cx="90676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Times New Roman"/>
              </a:rPr>
              <a:t>Death </a:t>
            </a:r>
            <a:endParaRPr b="0" lang="en-US" sz="4400" spc="-1" strike="noStrike">
              <a:solidFill>
                <a:srgbClr val="000080"/>
              </a:solidFill>
              <a:latin typeface="Times New Roman"/>
            </a:endParaRPr>
          </a:p>
        </p:txBody>
      </p:sp>
      <p:sp>
        <p:nvSpPr>
          <p:cNvPr id="172" name=""/>
          <p:cNvSpPr/>
          <p:nvPr/>
        </p:nvSpPr>
        <p:spPr>
          <a:xfrm>
            <a:off x="685800" y="1828800"/>
            <a:ext cx="8686800" cy="41688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800" spc="-1" strike="noStrike">
                <a:solidFill>
                  <a:srgbClr val="000000"/>
                </a:solidFill>
                <a:latin typeface="Comic Sans MS"/>
              </a:rPr>
              <a:t>Washington's death marked at the end of an era in American history. He had led the American colonies in their struggles for independence.</a:t>
            </a:r>
            <a:r>
              <a:rPr b="0" lang="en-US" sz="3200" spc="-1" strike="noStrike">
                <a:solidFill>
                  <a:srgbClr val="000000"/>
                </a:solidFill>
                <a:latin typeface="Comic Sans MS"/>
              </a:rPr>
              <a:t>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503280" y="345960"/>
            <a:ext cx="9070920" cy="63658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Times New Roman"/>
              </a:rPr>
              <a:t>Time line</a:t>
            </a:r>
            <a:endParaRPr b="0" lang="en-US" sz="4400" spc="-1" strike="noStrike">
              <a:solidFill>
                <a:srgbClr val="000080"/>
              </a:solidFill>
              <a:latin typeface="Times New Roman"/>
            </a:endParaRPr>
          </a:p>
        </p:txBody>
      </p:sp>
      <p:sp>
        <p:nvSpPr>
          <p:cNvPr id="175" name=""/>
          <p:cNvSpPr/>
          <p:nvPr/>
        </p:nvSpPr>
        <p:spPr>
          <a:xfrm>
            <a:off x="457200" y="4114800"/>
            <a:ext cx="9372600" cy="1440"/>
          </a:xfrm>
          <a:prstGeom prst="line">
            <a:avLst/>
          </a:prstGeom>
          <a:ln w="9144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
          <p:cNvSpPr/>
          <p:nvPr/>
        </p:nvSpPr>
        <p:spPr>
          <a:xfrm flipV="1">
            <a:off x="685800" y="3602160"/>
            <a:ext cx="1440" cy="698400"/>
          </a:xfrm>
          <a:prstGeom prst="line">
            <a:avLst/>
          </a:prstGeom>
          <a:ln w="7308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
          <p:cNvSpPr/>
          <p:nvPr/>
        </p:nvSpPr>
        <p:spPr>
          <a:xfrm>
            <a:off x="228600" y="1143000"/>
            <a:ext cx="2057400" cy="2057400"/>
          </a:xfrm>
          <a:prstGeom prst="roundRect">
            <a:avLst>
              <a:gd name="adj" fmla="val 83"/>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372960" y="1214280"/>
            <a:ext cx="1913040" cy="18748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George Washington was born in 1732 Westmoreland Virginia Feb. 22. </a:t>
            </a:r>
            <a:endParaRPr b="0" lang="en-US" sz="1800" spc="-1" strike="noStrike">
              <a:solidFill>
                <a:srgbClr val="000000"/>
              </a:solidFill>
              <a:latin typeface="Arial"/>
            </a:endParaRPr>
          </a:p>
        </p:txBody>
      </p:sp>
      <p:sp>
        <p:nvSpPr>
          <p:cNvPr id="179" name=""/>
          <p:cNvSpPr/>
          <p:nvPr/>
        </p:nvSpPr>
        <p:spPr>
          <a:xfrm>
            <a:off x="1600200" y="4343400"/>
            <a:ext cx="1440" cy="685800"/>
          </a:xfrm>
          <a:prstGeom prst="line">
            <a:avLst/>
          </a:prstGeom>
          <a:ln w="7308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
          <p:cNvSpPr/>
          <p:nvPr/>
        </p:nvSpPr>
        <p:spPr>
          <a:xfrm>
            <a:off x="685800" y="5029200"/>
            <a:ext cx="1600200" cy="2057400"/>
          </a:xfrm>
          <a:custGeom>
            <a:avLst/>
            <a:gdLst>
              <a:gd name="textAreaLeft" fmla="*/ 360 w 1600200"/>
              <a:gd name="textAreaRight" fmla="*/ 1599840 w 1600200"/>
              <a:gd name="textAreaTop" fmla="*/ 360 h 2057400"/>
              <a:gd name="textAreaBottom" fmla="*/ 2057040 h 2057400"/>
            </a:gdLst>
            <a:ahLst/>
            <a:rect l="textAreaLeft" t="textAreaTop" r="textAreaRight" b="textAreaBottom"/>
            <a:pathLst>
              <a:path w="21600" h="27770">
                <a:moveTo>
                  <a:pt x="21" y="0"/>
                </a:moveTo>
                <a:arcTo wR="21" hR="21" stAng="16200000" swAng="-5400000"/>
                <a:lnTo>
                  <a:pt x="0" y="27749"/>
                </a:lnTo>
                <a:arcTo wR="21" hR="21" stAng="10800000" swAng="-5400000"/>
                <a:lnTo>
                  <a:pt x="21579" y="27770"/>
                </a:lnTo>
                <a:arcTo wR="21" hR="21" stAng="5400000" swAng="-5400000"/>
                <a:lnTo>
                  <a:pt x="21600" y="21"/>
                </a:lnTo>
                <a:arcTo wR="21" hR="21" stAng="0" swAng="-5400000"/>
                <a:close/>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
          <p:cNvSpPr/>
          <p:nvPr/>
        </p:nvSpPr>
        <p:spPr>
          <a:xfrm>
            <a:off x="914400" y="5257800"/>
            <a:ext cx="1143000" cy="18748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In 1753 Washing-ton was sent by the Governor.</a:t>
            </a:r>
            <a:endParaRPr b="0" lang="en-US" sz="1800" spc="-1" strike="noStrike">
              <a:solidFill>
                <a:srgbClr val="000000"/>
              </a:solidFill>
              <a:latin typeface="Arial"/>
            </a:endParaRPr>
          </a:p>
        </p:txBody>
      </p:sp>
      <p:sp>
        <p:nvSpPr>
          <p:cNvPr id="182" name=""/>
          <p:cNvSpPr/>
          <p:nvPr/>
        </p:nvSpPr>
        <p:spPr>
          <a:xfrm flipV="1">
            <a:off x="3429000" y="3652560"/>
            <a:ext cx="1440" cy="695160"/>
          </a:xfrm>
          <a:prstGeom prst="line">
            <a:avLst/>
          </a:prstGeom>
          <a:ln w="7308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
          <p:cNvSpPr/>
          <p:nvPr/>
        </p:nvSpPr>
        <p:spPr>
          <a:xfrm>
            <a:off x="2743200" y="1143000"/>
            <a:ext cx="1828800" cy="2286000"/>
          </a:xfrm>
          <a:custGeom>
            <a:avLst/>
            <a:gdLst>
              <a:gd name="textAreaLeft" fmla="*/ 360 w 1828800"/>
              <a:gd name="textAreaRight" fmla="*/ 1828440 w 1828800"/>
              <a:gd name="textAreaTop" fmla="*/ 360 h 2286000"/>
              <a:gd name="textAreaBottom" fmla="*/ 2285640 h 2286000"/>
            </a:gdLst>
            <a:ahLst/>
            <a:rect l="textAreaLeft" t="textAreaTop" r="textAreaRight" b="textAreaBottom"/>
            <a:pathLst>
              <a:path w="21600" h="26999">
                <a:moveTo>
                  <a:pt x="18" y="0"/>
                </a:moveTo>
                <a:arcTo wR="18" hR="18" stAng="16200000" swAng="-5400000"/>
                <a:lnTo>
                  <a:pt x="0" y="26981"/>
                </a:lnTo>
                <a:arcTo wR="18" hR="18" stAng="10800000" swAng="-5400000"/>
                <a:lnTo>
                  <a:pt x="21582" y="26999"/>
                </a:lnTo>
                <a:arcTo wR="18" hR="18" stAng="5400000" swAng="-5400000"/>
                <a:lnTo>
                  <a:pt x="21600" y="18"/>
                </a:lnTo>
                <a:arcTo wR="18" hR="18" stAng="0" swAng="-5400000"/>
                <a:close/>
              </a:path>
            </a:pathLst>
          </a:custGeom>
          <a:solidFill>
            <a:srgbClr val="99ccff"/>
          </a:solidFill>
          <a:ln w="9360">
            <a:solidFill>
              <a:srgbClr val="000000"/>
            </a:solidFill>
            <a:round/>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sp>
        <p:nvSpPr>
          <p:cNvPr id="184" name=""/>
          <p:cNvSpPr/>
          <p:nvPr/>
        </p:nvSpPr>
        <p:spPr>
          <a:xfrm>
            <a:off x="2743200" y="1143000"/>
            <a:ext cx="1828800" cy="2286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In 1755 Washington was the commander chief of Virginia forces. </a:t>
            </a:r>
            <a:endParaRPr b="0" lang="en-US" sz="1800" spc="-1" strike="noStrike">
              <a:solidFill>
                <a:srgbClr val="000000"/>
              </a:solidFill>
              <a:latin typeface="Arial"/>
            </a:endParaRPr>
          </a:p>
        </p:txBody>
      </p:sp>
      <p:sp>
        <p:nvSpPr>
          <p:cNvPr id="185" name=""/>
          <p:cNvSpPr/>
          <p:nvPr/>
        </p:nvSpPr>
        <p:spPr>
          <a:xfrm>
            <a:off x="3925800" y="4343400"/>
            <a:ext cx="1800" cy="685800"/>
          </a:xfrm>
          <a:prstGeom prst="line">
            <a:avLst/>
          </a:prstGeom>
          <a:ln w="7308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6" name=""/>
          <p:cNvSpPr/>
          <p:nvPr/>
        </p:nvSpPr>
        <p:spPr>
          <a:xfrm>
            <a:off x="3011400" y="5029200"/>
            <a:ext cx="1828800" cy="2057400"/>
          </a:xfrm>
          <a:custGeom>
            <a:avLst/>
            <a:gdLst>
              <a:gd name="textAreaLeft" fmla="*/ 360 w 1828800"/>
              <a:gd name="textAreaRight" fmla="*/ 1828440 w 1828800"/>
              <a:gd name="textAreaTop" fmla="*/ 360 h 2057400"/>
              <a:gd name="textAreaBottom" fmla="*/ 2057040 h 2057400"/>
            </a:gdLst>
            <a:ahLst/>
            <a:rect l="textAreaLeft" t="textAreaTop" r="textAreaRight" b="textAreaBottom"/>
            <a:pathLst>
              <a:path w="21600" h="24299">
                <a:moveTo>
                  <a:pt x="18" y="0"/>
                </a:moveTo>
                <a:arcTo wR="18" hR="18" stAng="16200000" swAng="-5400000"/>
                <a:lnTo>
                  <a:pt x="0" y="24281"/>
                </a:lnTo>
                <a:arcTo wR="18" hR="18" stAng="10800000" swAng="-5400000"/>
                <a:lnTo>
                  <a:pt x="21582" y="24299"/>
                </a:lnTo>
                <a:arcTo wR="18" hR="18" stAng="5400000" swAng="-5400000"/>
                <a:lnTo>
                  <a:pt x="21600" y="18"/>
                </a:lnTo>
                <a:arcTo wR="18" hR="18" stAng="0" swAng="-5400000"/>
                <a:close/>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7" name=""/>
          <p:cNvSpPr/>
          <p:nvPr/>
        </p:nvSpPr>
        <p:spPr>
          <a:xfrm>
            <a:off x="2975040" y="5029200"/>
            <a:ext cx="1828800" cy="11095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In 1759 Washington married Martha Custis. </a:t>
            </a:r>
            <a:endParaRPr b="0" lang="en-US" sz="1800" spc="-1" strike="noStrike">
              <a:solidFill>
                <a:srgbClr val="000000"/>
              </a:solidFill>
              <a:latin typeface="Arial"/>
            </a:endParaRPr>
          </a:p>
        </p:txBody>
      </p:sp>
      <p:sp>
        <p:nvSpPr>
          <p:cNvPr id="188" name=""/>
          <p:cNvSpPr/>
          <p:nvPr/>
        </p:nvSpPr>
        <p:spPr>
          <a:xfrm flipV="1">
            <a:off x="5442120" y="3652560"/>
            <a:ext cx="1440" cy="695160"/>
          </a:xfrm>
          <a:prstGeom prst="line">
            <a:avLst/>
          </a:prstGeom>
          <a:ln w="7308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4778280" y="1143000"/>
            <a:ext cx="2057400" cy="2514600"/>
          </a:xfrm>
          <a:custGeom>
            <a:avLst/>
            <a:gdLst>
              <a:gd name="textAreaLeft" fmla="*/ 360 w 2057400"/>
              <a:gd name="textAreaRight" fmla="*/ 2057040 w 2057400"/>
              <a:gd name="textAreaTop" fmla="*/ 360 h 2514600"/>
              <a:gd name="textAreaBottom" fmla="*/ 2514240 h 2514600"/>
            </a:gdLst>
            <a:ahLst/>
            <a:rect l="textAreaLeft" t="textAreaTop" r="textAreaRight" b="textAreaBottom"/>
            <a:pathLst>
              <a:path w="21600" h="26399">
                <a:moveTo>
                  <a:pt x="16" y="0"/>
                </a:moveTo>
                <a:arcTo wR="16" hR="16" stAng="16200000" swAng="-5400000"/>
                <a:lnTo>
                  <a:pt x="0" y="26383"/>
                </a:lnTo>
                <a:arcTo wR="16" hR="16" stAng="10800000" swAng="-5400000"/>
                <a:lnTo>
                  <a:pt x="21584" y="26399"/>
                </a:lnTo>
                <a:arcTo wR="16" hR="16" stAng="5400000" swAng="-5400000"/>
                <a:lnTo>
                  <a:pt x="21600" y="16"/>
                </a:lnTo>
                <a:arcTo wR="16" hR="16" stAng="0" swAng="-5400000"/>
                <a:close/>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4778280" y="1143000"/>
            <a:ext cx="2057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In 1775 he was a Delegate to second Continental Congress. </a:t>
            </a:r>
            <a:endParaRPr b="0" lang="en-US" sz="1800" spc="-1" strike="noStrike">
              <a:solidFill>
                <a:srgbClr val="000000"/>
              </a:solidFill>
              <a:latin typeface="Arial"/>
            </a:endParaRPr>
          </a:p>
        </p:txBody>
      </p:sp>
      <p:sp>
        <p:nvSpPr>
          <p:cNvPr id="191" name=""/>
          <p:cNvSpPr/>
          <p:nvPr/>
        </p:nvSpPr>
        <p:spPr>
          <a:xfrm>
            <a:off x="6283440" y="4343400"/>
            <a:ext cx="1440" cy="685800"/>
          </a:xfrm>
          <a:prstGeom prst="line">
            <a:avLst/>
          </a:prstGeom>
          <a:ln w="7308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5549760" y="5029200"/>
            <a:ext cx="1828800" cy="2057400"/>
          </a:xfrm>
          <a:custGeom>
            <a:avLst/>
            <a:gdLst>
              <a:gd name="textAreaLeft" fmla="*/ 360 w 1828800"/>
              <a:gd name="textAreaRight" fmla="*/ 1828440 w 1828800"/>
              <a:gd name="textAreaTop" fmla="*/ 360 h 2057400"/>
              <a:gd name="textAreaBottom" fmla="*/ 2057040 h 2057400"/>
            </a:gdLst>
            <a:ahLst/>
            <a:rect l="textAreaLeft" t="textAreaTop" r="textAreaRight" b="textAreaBottom"/>
            <a:pathLst>
              <a:path w="21600" h="24299">
                <a:moveTo>
                  <a:pt x="18" y="0"/>
                </a:moveTo>
                <a:arcTo wR="18" hR="18" stAng="16200000" swAng="-5400000"/>
                <a:lnTo>
                  <a:pt x="0" y="24281"/>
                </a:lnTo>
                <a:arcTo wR="18" hR="18" stAng="10800000" swAng="-5400000"/>
                <a:lnTo>
                  <a:pt x="21582" y="24299"/>
                </a:lnTo>
                <a:arcTo wR="18" hR="18" stAng="5400000" swAng="-5400000"/>
                <a:lnTo>
                  <a:pt x="21600" y="18"/>
                </a:lnTo>
                <a:arcTo wR="18" hR="18" stAng="0" swAng="-5400000"/>
                <a:close/>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3" name=""/>
          <p:cNvSpPr/>
          <p:nvPr/>
        </p:nvSpPr>
        <p:spPr>
          <a:xfrm>
            <a:off x="5486400" y="5029200"/>
            <a:ext cx="2057400" cy="11095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George Washington was the first president of our country.  </a:t>
            </a:r>
            <a:endParaRPr b="0" lang="en-US" sz="1800" spc="-1" strike="noStrike">
              <a:solidFill>
                <a:srgbClr val="000000"/>
              </a:solidFill>
              <a:latin typeface="Arial"/>
            </a:endParaRPr>
          </a:p>
        </p:txBody>
      </p:sp>
      <p:sp>
        <p:nvSpPr>
          <p:cNvPr id="194" name=""/>
          <p:cNvSpPr/>
          <p:nvPr/>
        </p:nvSpPr>
        <p:spPr>
          <a:xfrm flipV="1">
            <a:off x="8001000" y="3652560"/>
            <a:ext cx="1440" cy="695160"/>
          </a:xfrm>
          <a:prstGeom prst="line">
            <a:avLst/>
          </a:prstGeom>
          <a:ln w="7308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
          <p:cNvSpPr/>
          <p:nvPr/>
        </p:nvSpPr>
        <p:spPr>
          <a:xfrm>
            <a:off x="7086600" y="1143000"/>
            <a:ext cx="1828800" cy="2514600"/>
          </a:xfrm>
          <a:custGeom>
            <a:avLst/>
            <a:gdLst>
              <a:gd name="textAreaLeft" fmla="*/ 360 w 1828800"/>
              <a:gd name="textAreaRight" fmla="*/ 1828440 w 1828800"/>
              <a:gd name="textAreaTop" fmla="*/ 360 h 2514600"/>
              <a:gd name="textAreaBottom" fmla="*/ 2514240 h 2514600"/>
            </a:gdLst>
            <a:ahLst/>
            <a:rect l="textAreaLeft" t="textAreaTop" r="textAreaRight" b="textAreaBottom"/>
            <a:pathLst>
              <a:path w="21600" h="29698">
                <a:moveTo>
                  <a:pt x="18" y="0"/>
                </a:moveTo>
                <a:arcTo wR="18" hR="18" stAng="16200000" swAng="-5400000"/>
                <a:lnTo>
                  <a:pt x="0" y="29680"/>
                </a:lnTo>
                <a:arcTo wR="18" hR="18" stAng="10800000" swAng="-5400000"/>
                <a:lnTo>
                  <a:pt x="21582" y="29698"/>
                </a:lnTo>
                <a:arcTo wR="18" hR="18" stAng="5400000" swAng="-5400000"/>
                <a:lnTo>
                  <a:pt x="21600" y="18"/>
                </a:lnTo>
                <a:arcTo wR="18" hR="18" stAng="0" swAng="-5400000"/>
                <a:close/>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
          <p:cNvSpPr/>
          <p:nvPr/>
        </p:nvSpPr>
        <p:spPr>
          <a:xfrm>
            <a:off x="7086600" y="1143000"/>
            <a:ext cx="1828800" cy="16192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Washington died at Mount Vernon December 14 1799 of a bad cold.</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02920" y="380880"/>
            <a:ext cx="9069480" cy="1170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Times New Roman"/>
              </a:rPr>
              <a:t>Journal entry 1</a:t>
            </a:r>
            <a:endParaRPr b="0" lang="en-US" sz="4400" spc="-1" strike="noStrike">
              <a:solidFill>
                <a:srgbClr val="000080"/>
              </a:solidFill>
              <a:latin typeface="Times New Roman"/>
            </a:endParaRPr>
          </a:p>
        </p:txBody>
      </p:sp>
      <p:sp>
        <p:nvSpPr>
          <p:cNvPr id="198" name=""/>
          <p:cNvSpPr/>
          <p:nvPr/>
        </p:nvSpPr>
        <p:spPr>
          <a:xfrm>
            <a:off x="914400" y="1828800"/>
            <a:ext cx="8229600" cy="37162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I was born February, 1732  my father was Augustine Washington, a prosperous farmer my mother, Mary Ball was were I descended from families who had emigrated from England to Virginia in the 1650's. After my father died in 1743 I lived with his stepbrother Lawrence at his estate, Mount Vernon.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02920" y="380880"/>
            <a:ext cx="9069480" cy="1170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Times New Roman"/>
              </a:rPr>
              <a:t>Journal entry 2</a:t>
            </a:r>
            <a:endParaRPr b="0" lang="en-US" sz="4400" spc="-1" strike="noStrike">
              <a:solidFill>
                <a:srgbClr val="000080"/>
              </a:solidFill>
              <a:latin typeface="Times New Roman"/>
            </a:endParaRPr>
          </a:p>
        </p:txBody>
      </p:sp>
      <p:sp>
        <p:nvSpPr>
          <p:cNvPr id="200" name=""/>
          <p:cNvSpPr/>
          <p:nvPr/>
        </p:nvSpPr>
        <p:spPr>
          <a:xfrm>
            <a:off x="1143000" y="1828800"/>
            <a:ext cx="8001000" cy="37162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At the age 16 I went with one of my cousins Lawrence had married Anne Fair fax on a surveying expedition in the Shenandoah Valley. The next year I, now grown into a tall vigorous young man was appointed surveyor for Culpeper County, Virginia, and he lived for many months in the wilderness.</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02920" y="380880"/>
            <a:ext cx="9069480" cy="1170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Times New Roman"/>
              </a:rPr>
              <a:t>Journal entry 3</a:t>
            </a:r>
            <a:endParaRPr b="0" lang="en-US" sz="4400" spc="-1" strike="noStrike">
              <a:solidFill>
                <a:srgbClr val="000080"/>
              </a:solidFill>
              <a:latin typeface="Times New Roman"/>
            </a:endParaRPr>
          </a:p>
        </p:txBody>
      </p:sp>
      <p:sp>
        <p:nvSpPr>
          <p:cNvPr id="202" name=""/>
          <p:cNvSpPr/>
          <p:nvPr/>
        </p:nvSpPr>
        <p:spPr>
          <a:xfrm>
            <a:off x="144360" y="1828800"/>
            <a:ext cx="9933120" cy="3159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000000"/>
                </a:solidFill>
                <a:latin typeface="Comic Sans MS"/>
              </a:rPr>
              <a:t>I had suggested the building of a fort at the forks of the Ohio River, where Pittsburgh now is. Governor Dinwiddie sent some men to build the fort and dispatched me, now promoted to lieutenant colonel.</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1T14:49:08Z</dcterms:created>
  <dc:creator/>
  <dc:description/>
  <dc:language>en-US</dc:language>
  <cp:lastModifiedBy>student</cp:lastModifiedBy>
  <dcterms:modified xsi:type="dcterms:W3CDTF">2013-05-02T17:44:57Z</dcterms:modified>
  <cp:revision>1</cp:revision>
  <dc:subject/>
  <dc:title>Slide 1</dc:title>
</cp:coreProperties>
</file>